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14B-0FC8-4754-A0A6-E59A1139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A35-55BC-42EC-A910-5ECD4CB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DCC-4A15-4D03-9DAA-8FDD68C0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893-20D4-4103-B096-476A6D8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594-2B80-4345-9EF9-54431DAA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D5C-5437-4BF5-82BE-AD5040C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11F-879D-497F-B5AB-BE96CE9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8C87-C5DD-4597-A2CF-766C25C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C23-0D17-4CCD-BF49-35EC60B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8B3C-09F0-498C-AB5E-FE03BA3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9C1-4FFF-4940-9094-4C72109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0F1-D3E4-4EA5-8BCC-80FD8E8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C03-D8CF-40AF-A9EF-7453786D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51C-5FB4-444B-8D5F-8A1E99A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AE3-3E93-45B2-BAC8-7BDC0AB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0758-C7F9-4D7E-86B2-87D93A24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362-2B26-48DF-A053-97E7147F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DFA56-C329-415D-813D-8298B1AD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62411-E2A7-4A2E-8A50-505A177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51B4E-1672-4F3F-AD37-993918B3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7C2A1-DB6C-4C67-8D1A-0264EBC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617C6-0937-4B61-B1C5-5C9AC0D9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C11-1845-47DF-BAEE-79DC7716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811E8-6FEC-4B7D-871B-0C349D4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54437-39CA-4805-A771-69C4F74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2F8D3-0B1F-4ABF-A7B2-2824117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B96E-F33F-4463-90D0-7C808B8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82768-A6AC-4909-934C-9AB4BDD6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AB5CE-78AD-4D64-8DCF-37D8AA82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D8FEC-8223-42A2-AB75-CDDAE642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3DAE-5044-4C1F-92DC-A1B1CF47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A2B1-971B-4D27-A47E-042835A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09C4-30D8-48D8-BD13-C2B83A6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336-7FDC-4668-A3CB-D71F10C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BA78-D869-4D2E-B1D2-2BCDF41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48B4-A748-43C0-ACB8-03CF0ADD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AAD1-C505-470A-A2C8-303F2066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4243-4114-4072-ADBE-044D8FA1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B4BE-1F58-4049-A6D6-C943590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91BD-CBEF-4C7E-9709-5AE3BB4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64C8-7156-47CC-823F-643B755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38E1-5B74-472D-B284-F9F3A1BD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DBE5-65C4-4A11-8758-109ACEF7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64F-3895-4F6B-B557-BD13048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26B-7C86-42B8-931C-3863CA9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3FF-EFE9-4277-94E1-2A00145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6CE-AED1-40BD-81D7-AC167612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AC6-CB1D-407C-9850-F759F62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86D-39FF-4E22-BDF1-FAE3007287D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D31-5C25-4701-ABB4-E32C80CB91F0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F06-A9F8-4845-B347-F3F7AB76DD95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A6B8-8017-4563-8619-EF9BFC20A856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656280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783a7a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2b4a5e"/>
                </a:solidFill>
                <a:latin typeface="Georgia"/>
              </a:rPr>
              <a:t>Mariola jest o 3 lata młodsza od Krysi. Za 8 lat suma ich wieku będzie równa 63 lata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2b4a5e"/>
                </a:solidFill>
                <a:latin typeface="Georgia"/>
              </a:rPr>
              <a:t>Ile lat ma każda z dziewczynek teraz?</a:t>
            </a:r>
            <a:r>
              <a:rPr b="0" lang="pl-PL" sz="2800" spc="-1" strike="noStrike">
                <a:solidFill>
                  <a:srgbClr val="2b4a5e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zadań tekstowych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z zastosowaniem równań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– wiek osób</a:t>
            </a:r>
            <a:r>
              <a:rPr b="0" lang="pl-PL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Mariola jest o 3 lata młodsza od Krysi. 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Za 8 lat suma ich wieku będzie równa 63 lata. 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Ile lat ma każda z dziewczynek teraz?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826920" y="1628640"/>
            <a:ext cx="3961080" cy="649440"/>
          </a:xfrm>
          <a:prstGeom prst="wedgeRectCallout">
            <a:avLst>
              <a:gd name="adj1" fmla="val 59981"/>
              <a:gd name="adj2" fmla="val -32152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b4a5e"/>
                </a:solidFill>
                <a:latin typeface="Georgia"/>
              </a:rPr>
              <a:t>Ustalamy niewiadomą i zapisujemy informacje podane w zadan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1187280" y="2349360"/>
            <a:ext cx="3241800" cy="576360"/>
          </a:xfrm>
          <a:prstGeom prst="wedgeRectCallout">
            <a:avLst>
              <a:gd name="adj1" fmla="val 71791"/>
              <a:gd name="adj2" fmla="val -5633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Mariola jest o 3 lata młod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4"/>
          <p:cNvSpPr/>
          <p:nvPr/>
        </p:nvSpPr>
        <p:spPr>
          <a:xfrm>
            <a:off x="250920" y="3068640"/>
            <a:ext cx="4249800" cy="503280"/>
          </a:xfrm>
          <a:prstGeom prst="wedgeRectCallout">
            <a:avLst>
              <a:gd name="adj1" fmla="val 59527"/>
              <a:gd name="adj2" fmla="val -4306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b4a5e"/>
                </a:solidFill>
                <a:latin typeface="Georgia"/>
              </a:rPr>
              <a:t>Krysia za 8 lat będzie miała o 8 lat więc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7"/>
          <p:cNvSpPr/>
          <p:nvPr/>
        </p:nvSpPr>
        <p:spPr>
          <a:xfrm>
            <a:off x="900000" y="3716280"/>
            <a:ext cx="3816360" cy="433440"/>
          </a:xfrm>
          <a:prstGeom prst="wedgeRectCallout">
            <a:avLst>
              <a:gd name="adj1" fmla="val 57694"/>
              <a:gd name="adj2" fmla="val -5109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Mariola również będzie miała 8 lat więc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72"/>
              <p:cNvSpPr txBox="1"/>
              <p:nvPr/>
            </p:nvSpPr>
            <p:spPr>
              <a:xfrm>
                <a:off x="5219640" y="1557360"/>
                <a:ext cx="304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AutoShape 77"/>
          <p:cNvSpPr/>
          <p:nvPr/>
        </p:nvSpPr>
        <p:spPr>
          <a:xfrm>
            <a:off x="324000" y="4437000"/>
            <a:ext cx="4248000" cy="432000"/>
          </a:xfrm>
          <a:prstGeom prst="wedgeRectCallout">
            <a:avLst>
              <a:gd name="adj1" fmla="val 60166"/>
              <a:gd name="adj2" fmla="val -4706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Georgia"/>
              </a:rPr>
              <a:t>za 8 lat dziewczynki będą miały razem 63 l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6588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2"/>
              <p:cNvSpPr txBox="1"/>
              <p:nvPr/>
            </p:nvSpPr>
            <p:spPr>
              <a:xfrm>
                <a:off x="5219640" y="2060640"/>
                <a:ext cx="863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ytuł 1"/>
          <p:cNvSpPr/>
          <p:nvPr/>
        </p:nvSpPr>
        <p:spPr>
          <a:xfrm>
            <a:off x="6588000" y="20606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4"/>
              <p:cNvSpPr txBox="1"/>
              <p:nvPr/>
            </p:nvSpPr>
            <p:spPr>
              <a:xfrm>
                <a:off x="5219640" y="2852640"/>
                <a:ext cx="943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ytuł 1"/>
          <p:cNvSpPr/>
          <p:nvPr/>
        </p:nvSpPr>
        <p:spPr>
          <a:xfrm>
            <a:off x="6588000" y="28526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wiek Krysi za 8 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86"/>
              <p:cNvSpPr txBox="1"/>
              <p:nvPr/>
            </p:nvSpPr>
            <p:spPr>
              <a:xfrm>
                <a:off x="5219640" y="3429000"/>
                <a:ext cx="12319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ytuł 1"/>
          <p:cNvSpPr/>
          <p:nvPr/>
        </p:nvSpPr>
        <p:spPr>
          <a:xfrm>
            <a:off x="6588000" y="3429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wiek Marioli za 8 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219640" y="4005360"/>
                <a:ext cx="444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ytuł 1"/>
          <p:cNvSpPr/>
          <p:nvPr/>
        </p:nvSpPr>
        <p:spPr>
          <a:xfrm>
            <a:off x="6227640" y="4005360"/>
            <a:ext cx="29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rebuchet MS"/>
              </a:rPr>
              <a:t>suma wieku dziewczynek za 8 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0"/>
          <p:cNvSpPr/>
          <p:nvPr/>
        </p:nvSpPr>
        <p:spPr>
          <a:xfrm>
            <a:off x="539640" y="5084640"/>
            <a:ext cx="3816360" cy="792360"/>
          </a:xfrm>
          <a:prstGeom prst="wedgeRectCallout">
            <a:avLst>
              <a:gd name="adj1" fmla="val 66805"/>
              <a:gd name="adj2" fmla="val -51402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wiek dziewczynek  za 8 lat możemy również zapisać t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1"/>
              <p:cNvSpPr txBox="1"/>
              <p:nvPr/>
            </p:nvSpPr>
            <p:spPr>
              <a:xfrm>
                <a:off x="5435640" y="4797360"/>
                <a:ext cx="3024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AutoShape 92"/>
          <p:cNvSpPr/>
          <p:nvPr/>
        </p:nvSpPr>
        <p:spPr>
          <a:xfrm>
            <a:off x="755640" y="6165720"/>
            <a:ext cx="3745080" cy="503280"/>
          </a:xfrm>
          <a:prstGeom prst="wedgeRectCallout">
            <a:avLst>
              <a:gd name="adj1" fmla="val 53050"/>
              <a:gd name="adj2" fmla="val -87134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Układamy rów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3"/>
              <p:cNvSpPr txBox="1"/>
              <p:nvPr/>
            </p:nvSpPr>
            <p:spPr>
              <a:xfrm>
                <a:off x="4795920" y="5734080"/>
                <a:ext cx="4240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Line 94"/>
          <p:cNvSpPr/>
          <p:nvPr/>
        </p:nvSpPr>
        <p:spPr>
          <a:xfrm flipH="1">
            <a:off x="7093080" y="4437000"/>
            <a:ext cx="287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Rozwiązujemy równanie </a:t>
            </a:r>
            <a:br>
              <a:rPr sz="5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900000" y="2133720"/>
            <a:ext cx="3529080" cy="718920"/>
          </a:xfrm>
          <a:prstGeom prst="wedgeRectCallout">
            <a:avLst>
              <a:gd name="adj1" fmla="val 66777"/>
              <a:gd name="adj2" fmla="val -1657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Kolejne kroki rozwią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11280" y="5229360"/>
            <a:ext cx="3816360" cy="576000"/>
          </a:xfrm>
          <a:prstGeom prst="wedgeRectCallout">
            <a:avLst>
              <a:gd name="adj1" fmla="val 63351"/>
              <a:gd name="adj2" fmla="val 23555"/>
            </a:avLst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Obliczyliśmy aktualny wiek Kry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0"/>
              <p:cNvSpPr txBox="1"/>
              <p:nvPr/>
            </p:nvSpPr>
            <p:spPr>
              <a:xfrm>
                <a:off x="4643280" y="1341360"/>
                <a:ext cx="4346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22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1"/>
              <p:cNvSpPr txBox="1"/>
              <p:nvPr/>
            </p:nvSpPr>
            <p:spPr>
              <a:xfrm>
                <a:off x="5003640" y="2633760"/>
                <a:ext cx="3961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4957920" y="3213000"/>
                <a:ext cx="400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4"/>
              <p:cNvSpPr txBox="1"/>
              <p:nvPr/>
            </p:nvSpPr>
            <p:spPr>
              <a:xfrm>
                <a:off x="5003640" y="3749760"/>
                <a:ext cx="2514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5"/>
              <p:cNvSpPr txBox="1"/>
              <p:nvPr/>
            </p:nvSpPr>
            <p:spPr>
              <a:xfrm>
                <a:off x="5003640" y="432576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6"/>
              <p:cNvSpPr txBox="1"/>
              <p:nvPr/>
            </p:nvSpPr>
            <p:spPr>
              <a:xfrm>
                <a:off x="5003640" y="4902120"/>
                <a:ext cx="1571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7"/>
              <p:cNvSpPr txBox="1"/>
              <p:nvPr/>
            </p:nvSpPr>
            <p:spPr>
              <a:xfrm>
                <a:off x="5003640" y="5478480"/>
                <a:ext cx="141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Oval 28"/>
          <p:cNvSpPr/>
          <p:nvPr/>
        </p:nvSpPr>
        <p:spPr>
          <a:xfrm>
            <a:off x="5003640" y="5300640"/>
            <a:ext cx="1440000" cy="792360"/>
          </a:xfrm>
          <a:prstGeom prst="ellipse">
            <a:avLst/>
          </a:prstGeom>
          <a:noFill/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87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125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080" y="61884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bliczamy aktualny wiek Marioli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900000" y="2133720"/>
            <a:ext cx="3529080" cy="718920"/>
          </a:xfrm>
          <a:prstGeom prst="wedgeRectCallout">
            <a:avLst>
              <a:gd name="adj1" fmla="val 66777"/>
              <a:gd name="adj2" fmla="val -165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Mariola jest młodsza od Kry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 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55640" y="3284640"/>
            <a:ext cx="3816360" cy="1225440"/>
          </a:xfrm>
          <a:prstGeom prst="wedgeRectCallout">
            <a:avLst>
              <a:gd name="adj1" fmla="val 69675"/>
              <a:gd name="adj2" fmla="val -13990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Sprawdzamy czy rozwiązanie spełnia warunki zadani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Mariola ma być młodsza od Krysi o 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343480" y="2371680"/>
                <a:ext cx="2324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5219640" y="1557360"/>
                <a:ext cx="1414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Oval 14"/>
          <p:cNvSpPr/>
          <p:nvPr/>
        </p:nvSpPr>
        <p:spPr>
          <a:xfrm>
            <a:off x="5219640" y="1379520"/>
            <a:ext cx="1440000" cy="7923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ytuł 1"/>
          <p:cNvSpPr/>
          <p:nvPr/>
        </p:nvSpPr>
        <p:spPr>
          <a:xfrm>
            <a:off x="6696000" y="15573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ytuł 1"/>
          <p:cNvSpPr/>
          <p:nvPr/>
        </p:nvSpPr>
        <p:spPr>
          <a:xfrm>
            <a:off x="6696000" y="2925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7020000" y="2133720"/>
            <a:ext cx="792000" cy="7920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8"/>
              <p:cNvSpPr txBox="1"/>
              <p:nvPr/>
            </p:nvSpPr>
            <p:spPr>
              <a:xfrm>
                <a:off x="5435640" y="3500280"/>
                <a:ext cx="2324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9"/>
              <p:cNvSpPr txBox="1"/>
              <p:nvPr/>
            </p:nvSpPr>
            <p:spPr>
              <a:xfrm>
                <a:off x="5384880" y="4365720"/>
                <a:ext cx="3435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0"/>
              <p:cNvSpPr txBox="1"/>
              <p:nvPr/>
            </p:nvSpPr>
            <p:spPr>
              <a:xfrm>
                <a:off x="5364000" y="5467320"/>
                <a:ext cx="252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AutoShape 21"/>
          <p:cNvSpPr/>
          <p:nvPr/>
        </p:nvSpPr>
        <p:spPr>
          <a:xfrm>
            <a:off x="1692360" y="4941720"/>
            <a:ext cx="3024000" cy="938520"/>
          </a:xfrm>
          <a:prstGeom prst="wedgeRectCallout">
            <a:avLst>
              <a:gd name="adj1" fmla="val 64013"/>
              <a:gd name="adj2" fmla="val 23773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za 8 lat razem mają mieć 63 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2"/>
          <p:cNvSpPr/>
          <p:nvPr/>
        </p:nvSpPr>
        <p:spPr>
          <a:xfrm>
            <a:off x="5364000" y="4149720"/>
            <a:ext cx="1224000" cy="792000"/>
          </a:xfrm>
          <a:prstGeom prst="ellipse">
            <a:avLst/>
          </a:prstGeom>
          <a:noFill/>
          <a:ln w="28440">
            <a:solidFill>
              <a:srgbClr val="783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6804000" y="4149720"/>
            <a:ext cx="1224000" cy="7920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ytuł 1"/>
          <p:cNvSpPr/>
          <p:nvPr/>
        </p:nvSpPr>
        <p:spPr>
          <a:xfrm>
            <a:off x="5219640" y="486900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rebuchet MS"/>
              </a:rPr>
              <a:t>wiek Krysi za 8 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ytuł 1"/>
          <p:cNvSpPr/>
          <p:nvPr/>
        </p:nvSpPr>
        <p:spPr>
          <a:xfrm>
            <a:off x="6877080" y="4869000"/>
            <a:ext cx="172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rebuchet MS"/>
              </a:rPr>
              <a:t>wiek Marioli za 8 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80" y="61884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powiedź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24000" y="1773360"/>
            <a:ext cx="4105080" cy="1295280"/>
          </a:xfrm>
          <a:prstGeom prst="wedgeRectCallout">
            <a:avLst>
              <a:gd name="adj1" fmla="val 18486"/>
              <a:gd name="adj2" fmla="val 9803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 sprawdzeniu czy  liczba spełniająca równanie spełnia również warunki zadania zapisujemy odpowied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2268360" y="4149720"/>
            <a:ext cx="4537080" cy="1225440"/>
          </a:xfrm>
          <a:prstGeom prst="wedgeRectCallout">
            <a:avLst>
              <a:gd name="adj1" fmla="val 21939"/>
              <a:gd name="adj2" fmla="val -104791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Aktualnie Krysia ma 25 l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a Mariola 22 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5219640" y="2349360"/>
                <a:ext cx="501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8"/>
              <p:cNvSpPr txBox="1"/>
              <p:nvPr/>
            </p:nvSpPr>
            <p:spPr>
              <a:xfrm>
                <a:off x="5219640" y="1795320"/>
                <a:ext cx="534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ytuł 1"/>
          <p:cNvSpPr/>
          <p:nvPr/>
        </p:nvSpPr>
        <p:spPr>
          <a:xfrm>
            <a:off x="5940360" y="17733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Kry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ytuł 1"/>
          <p:cNvSpPr/>
          <p:nvPr/>
        </p:nvSpPr>
        <p:spPr>
          <a:xfrm>
            <a:off x="5940360" y="2349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aktualny wiek Mari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54:30Z</dcterms:modified>
  <cp:revision>104</cp:revision>
  <dc:subject/>
  <dc:title>Prezentacja programu PowerPoint</dc:title>
</cp:coreProperties>
</file>